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3DC-5D84-4F6F-A75B-BC141B81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CEE-0A4C-4288-9B3B-514D0507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D71-5D6F-44D2-8818-F5EF84A6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D0F-A235-49A6-8F9B-66410E4B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E5C-2BC4-46F9-B008-A4348191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535-5B6B-4396-8D02-CE58E53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F2F-A6BA-4FB9-823B-A34C167C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EFF-5DCA-4830-BB6C-D4A540B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026-7026-43BB-9F01-74E0B8B4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257-C7CC-4BDE-80C8-9FC0A70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CA5-4DFB-43AA-8327-B574FD4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18C-73EF-47E8-A748-BB31AA8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67676"/>
                </a:solidFill>
                <a:latin typeface="Apto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28C-E03D-47A8-A228-B22D5EE2E5B8}" type="slidenum">
              <a:rPr b="0" lang="ru-RU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-49320"/>
            <a:ext cx="121762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683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2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809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3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7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17:13:20Z</dcterms:created>
  <dc:creator>даша сучкова</dc:creator>
  <dc:description/>
  <dc:language>en-US</dc:language>
  <cp:lastModifiedBy>УМЦ</cp:lastModifiedBy>
  <dcterms:modified xsi:type="dcterms:W3CDTF">2025-03-25T12:17:03Z</dcterms:modified>
  <cp:revision>1</cp:revision>
  <dc:subject/>
  <dc:title>Презентация PowerPoint</dc:title>
</cp:coreProperties>
</file>